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B88-92AA-4F3F-A91F-6E839EF4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584-8D70-4FFF-B821-4B14EF33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6E6-78A6-4466-9B5E-C075B61F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6E3-95B9-488C-B745-3DF51B28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D00-BC18-4237-A2E3-9DDA17CE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050-1E8B-4C17-B8FB-A2DEF345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4ED-65CA-4026-8D0C-32D3599E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EC0-D8F4-4DC8-B6BC-33BE9516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077-9D39-4BBC-98D8-3937D071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48F-5CC9-4C31-A320-670D0DA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622-11A0-44FE-919D-5F0ABF3E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79A-5412-4745-BFCE-1EB20E6F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B002-1002-4815-813C-944915CCC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6BC3-2B8A-4839-AA5C-8C690EFC8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тиляция и пневмотранспорт перерабатывающих пред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C:\Users\dima\Desktop\osobennosti-promyshlennoy-ventilyatsii.jpg"/>
          <p:cNvPicPr/>
          <p:nvPr/>
        </p:nvPicPr>
        <p:blipFill>
          <a:blip r:embed="rId1"/>
          <a:stretch/>
        </p:blipFill>
        <p:spPr>
          <a:xfrm>
            <a:off x="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Users\dima\Desktop\osobennosti-promyshlennoy-ventilyatsii.jpg"/>
          <p:cNvPicPr/>
          <p:nvPr/>
        </p:nvPicPr>
        <p:blipFill>
          <a:blip r:embed="rId2"/>
          <a:stretch/>
        </p:blipFill>
        <p:spPr>
          <a:xfrm>
            <a:off x="327672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dima\Desktop\osobennosti-promyshlennoy-ventilyatsii.jpg"/>
          <p:cNvPicPr/>
          <p:nvPr/>
        </p:nvPicPr>
        <p:blipFill>
          <a:blip r:embed="rId3"/>
          <a:stretch/>
        </p:blipFill>
        <p:spPr>
          <a:xfrm>
            <a:off x="590400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:\Users\dima\Desktop\pnevmotransport111.jpg"/>
          <p:cNvPicPr/>
          <p:nvPr/>
        </p:nvPicPr>
        <p:blipFill>
          <a:blip r:embed="rId4"/>
          <a:stretch/>
        </p:blipFill>
        <p:spPr>
          <a:xfrm>
            <a:off x="0" y="0"/>
            <a:ext cx="3564000" cy="229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:\Users\dima\Desktop\pnevmotransport111.jpg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917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Производственные здания предприятий хранения и переработки зерна рассчитаны на избыточное давление от 0,15 до 0,4 кг/см</a:t>
            </a:r>
            <a:r>
              <a:rPr b="0" lang="ru-RU" sz="22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 (0,15...0,4)-10</a:t>
            </a:r>
            <a:r>
              <a:rPr b="0" lang="ru-RU" sz="2200" spc="-1" strike="noStrike" baseline="30000">
                <a:solidFill>
                  <a:srgbClr val="7030a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 Па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 Пылевые взрывы сопровождаются образованием большого объема газообразных продуктов, что обусловливает развитие давления (5...7)10</a:t>
            </a:r>
            <a:r>
              <a:rPr b="0" lang="ru-RU" sz="2200" spc="-1" strike="noStrike" baseline="30000">
                <a:solidFill>
                  <a:srgbClr val="c0000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 Па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защиты производственных зданий от разрушения предусмотрены устройства открытых проемов (окна, двери, ворота и др.) или легкосбрасываемых элементов в наружных стенах и перекрытиях с массой элементов не более 120 кг на 1 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рез которые отводятся газообразные продукты и снижается давление пылевого взрыва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лощадь вскрываемых сечений должна быть не менее 0,03 м</a:t>
            </a:r>
            <a:r>
              <a:rPr b="0" lang="ru-RU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на 1 м</a:t>
            </a:r>
            <a:r>
              <a:rPr b="0" lang="ru-RU" sz="2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защищаемого объем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92BD-D45A-4CBD-AAE6-3505A6310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НОВНЫЕ ПАРАМЕТРЫ ВОЗДУХА КАК РАБОЧЕГО ТЕЛА АСПИР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10920" y="177336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5B3D-3F39-4A9E-9321-3BA13ECB7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dima\Desktop\Состав воздуха.jpg"/>
          <p:cNvPicPr/>
          <p:nvPr/>
        </p:nvPicPr>
        <p:blipFill>
          <a:blip r:embed="rId1"/>
          <a:stretch/>
        </p:blipFill>
        <p:spPr>
          <a:xfrm>
            <a:off x="1042920" y="1592280"/>
            <a:ext cx="70214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НОВНЫЕ ПАРАМЕТРЫ ВОЗДУХА КАК РАБОЧЕГО ТЕЛА АСПИР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10920" y="177336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Абсолютная влажность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ρ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(кг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сительная влажность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%)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мператур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(C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ческая вязкость воздуха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а·с)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инетическая вязкость воздуха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(м2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/c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тальп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лагосодержание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(гр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кг)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циальное давление Рп (П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9B44-542D-42DC-9E70-FC783E0A9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бсолютная влаж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 это количество водяного пара в граммах, приходящаяся на 1 м3 сухого воздуха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1280" y="299736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носительная влажность воздух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отношение абсолютной влажности воздуха к максимально возможной влажности его при тех же давлении и температу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CC77-1125-486D-88F3-721E34531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dima\Desktop\blog-fiz-blogspot-com.PNG"/>
          <p:cNvPicPr/>
          <p:nvPr/>
        </p:nvPicPr>
        <p:blipFill>
          <a:blip r:embed="rId1"/>
          <a:stretch/>
        </p:blipFill>
        <p:spPr>
          <a:xfrm>
            <a:off x="3348000" y="4797360"/>
            <a:ext cx="1871640" cy="1719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1342800" cy="1085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5076720" y="1844640"/>
            <a:ext cx="6858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лажный воздух рассматривается условно как идеальный, подчиняющийся закону парциальных давлений Дальто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закону Дальтона для газовых смесей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е давление влажного воздуха (Р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есть сумма парциальных давлений сухого воздуха Р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и водяных паров Р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Р = Р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+ Р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9CE1-B174-4B74-93B7-A189AB29D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68421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414936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инематической вязкость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 отношение динамической (абсолютной) вязкости к плотности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инамической вязкость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, действующая на единичную площадь плоской поверхности, которая перемещается с единичной скоростью относительно другой плоской поверхности, находящейся от первой на единичном расстоя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C353-E3CD-4C6F-85E3-ECF89F426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24000" y="5216400"/>
            <a:ext cx="1943280" cy="164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835280" y="2276640"/>
            <a:ext cx="2238120" cy="196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4716360" y="5157720"/>
            <a:ext cx="132876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223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ля стандартного воздух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=17,95*10-6 Па·с    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ν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=15*10-6 м2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язкость воздух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 ростом его температуры увеличивается. Это связано с более интенсивным колебанием молекул воздуха вокруг равновесного состояния (согласно МКТ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FA69-894D-41A4-9D43-443AAB17F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436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Удельный объем влажного возд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56360" y="4724280"/>
            <a:ext cx="1333440" cy="16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258920" y="4724280"/>
            <a:ext cx="4343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нтальпия влажного воздуха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содержащейся в нем теплоты, отнесенное к единице массы сухого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4560" y="4005360"/>
            <a:ext cx="910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где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t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 температура воздуха, С;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п (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– энтальпия перегретого водяного пара, кДж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г;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влагосодержание воздуха, г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Ссв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– теплоемкость сухого воздуха, кДж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г*С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5D5C-C047-40F1-A7D0-AF340B559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49476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е основных параметров и характеристик влажного воздуха по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d – диаграм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07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первые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-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d - диаграмма для влажного воздуха была предложена проф. Л.К. Рамзи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E1D6-FA57-4BF1-8A4E-1755B06C3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дзаголовок 2"/>
          <p:cNvSpPr/>
          <p:nvPr/>
        </p:nvSpPr>
        <p:spPr>
          <a:xfrm>
            <a:off x="1116000" y="3141720"/>
            <a:ext cx="691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-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d - диаграмма свя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C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%)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п (Па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5222-5788-40EE-AFA7-755122EA2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dima\Desktop\Mollier_h-x.svg.png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:\Users\dima\Desktop\x.svg.png"/>
          <p:cNvPicPr/>
          <p:nvPr/>
        </p:nvPicPr>
        <p:blipFill>
          <a:blip r:embed="rId2"/>
          <a:stretch/>
        </p:blipFill>
        <p:spPr>
          <a:xfrm>
            <a:off x="762120" y="76320"/>
            <a:ext cx="761832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реподаватель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венков Дмитрий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елов С.А., Веденьев В.Ф. Вентиляционные и аспирационные установки предприятий хлебопродукт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, Кол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А.Анфалов, Г.И.Проценко, И.А.Хозяев, Е.В.Ревя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тиляционное и пневмо-транспортное оборудование хлебоперерабатывающих предприятий ДГТУ.- Ростов-на До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201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755-7DCD-477C-B94D-62240E544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EE40-B03B-46B4-8AAC-7BACCC8AB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C:\Users\dima\Desktop\diagramma_ramzina.gif"/>
          <p:cNvPicPr/>
          <p:nvPr/>
        </p:nvPicPr>
        <p:blipFill>
          <a:blip r:embed="rId1"/>
          <a:stretch/>
        </p:blipFill>
        <p:spPr>
          <a:xfrm>
            <a:off x="1258920" y="0"/>
            <a:ext cx="599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лаго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26920" y="3573000"/>
            <a:ext cx="806616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щее давление парогазовой сме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араметры стандартного воздух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=76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м рт.ст.=101366 П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ρ= 1,2 к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φ=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6CEF-38D4-4CC7-B103-4D4DF3BD1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5787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4449-33E8-4C4F-B166-C4E37E472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395280" y="2133720"/>
            <a:ext cx="8424720" cy="17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ЫЛЕВЫДЕЛЕНИЕ И ВЗРЫВООПАСНОСТЬ НА ПРЕДПРИЯТИЯХ ПО ПЕРЕРАБОТКЕ ЗЕРН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 в мире на зерноперерабатывающих объектах происходит 400-500 взрывов. За последних 20 лет в РФ произошло 195 взрывов. Пылевой взрыв внутри замкнутого пространства создает избыточное статическое давление, в 12,5 раз превышающее точку разрушения железобетонной пл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3860280"/>
            <a:ext cx="7417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Установлено распределение пылевых взрывов на предприятиях по хранению и переработке зерна по типам производств: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омбикормовые завод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36%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лева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27%,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мукомольные завод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20%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лады комбикормового сырь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1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1EA5-4E31-4A1A-8DEB-2EDFE62E0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ьшее количество первичных взрывов происходит в оборудовании (около 50%) и в емкостях (силосах и бункерах) - свыше 40%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борудования наиболее опасными являются нории, зерносушилки, вальцовые станки, дробилки, конвейеры и вентиляторы. Многие аварии сопровождались значительными разрушениями оборудования, зданий и сооружений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разрушительные последствия имели место на элеваторах (45%) и мукомольных заводах (35%), а на комбикормовых заводах лишь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A5A4-1CB8-4B3A-AC4D-D5159C6F7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78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ылевые взрывы сопровождаются образованием большого объема газообразных продуктов, что обусловливает развитие давления до (5-7)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. Скорость распространения взрыва 300...400 м/с. При взрыве повышается температура на соседних запыленных участках и ускоряется реакция го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ой взрывоопасности пылевоздушной смеси служи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хиометр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нцентрация пыли в воздухе. Это такое количество горючей пыли, при котором происходит полное ее  сгор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ухом воздухе при полном использовании кислорода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C1DD-0EB6-44EB-AD55-58CBC6E6A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ний порог взрывоопасной концентрации зерновой пыли в воздухе составляет 40 гр/м 1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акое количество пыли едва сможет покрыть площадь в 1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 этом любая более высокая концентрация пыли в воздухе обладает еще более мощным взрывным потенциало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 в зоне пылевого взрыва возраста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3000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избыточное статическое давление        достигает 10 кг/с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сравн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авление, необходимое для того, чтобы разбить оконное стекло, составляет 0,07 кг/с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1" lang="ru-RU" sz="24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авление, достаточное для разрушения деревянной конструкции составляет 0,14 кг/с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lang="ru-RU" sz="24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точка разрушения средней по толщине железобетонной плиты – 0,56 кг/см</a:t>
            </a:r>
            <a:r>
              <a:rPr b="1" lang="ru-RU" sz="24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E0D6-1F40-4843-82D1-2857D45C3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395280" y="0"/>
            <a:ext cx="8348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ражающее действие на з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06C6-71C8-4B33-AEA6-3E11515CA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dima\Desktop\images.jpg"/>
          <p:cNvPicPr/>
          <p:nvPr/>
        </p:nvPicPr>
        <p:blipFill>
          <a:blip r:embed="rId1"/>
          <a:stretch/>
        </p:blipFill>
        <p:spPr>
          <a:xfrm>
            <a:off x="0" y="3357720"/>
            <a:ext cx="532908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dima\Desktop\vzryivyi-na-elevatorax-zeo-3.jpg"/>
          <p:cNvPicPr/>
          <p:nvPr/>
        </p:nvPicPr>
        <p:blipFill>
          <a:blip r:embed="rId2"/>
          <a:stretch/>
        </p:blipFill>
        <p:spPr>
          <a:xfrm>
            <a:off x="0" y="0"/>
            <a:ext cx="5249880" cy="33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dima\Desktop\0_6ce08_7580025e_L (1).jpg"/>
          <p:cNvPicPr/>
          <p:nvPr/>
        </p:nvPicPr>
        <p:blipFill>
          <a:blip r:embed="rId3"/>
          <a:stretch/>
        </p:blipFill>
        <p:spPr>
          <a:xfrm>
            <a:off x="5132520" y="3645000"/>
            <a:ext cx="4011480" cy="321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dima\Desktop\maxresdefault.jpg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ражающее действие на людей от взрывной вол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избыточном давлении от 1,2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4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а в 75-100% случаев разрушаются кровеносные сосуды и мыш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При давлении от 0,35 до 1,05 10</a:t>
            </a:r>
            <a:r>
              <a:rPr b="0" lang="ru-RU" sz="2200" spc="-1" strike="noStrike" baseline="30000">
                <a:solidFill>
                  <a:srgbClr val="c0000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 Па у человека разрываются барабанные перепонки, и происходят нервнопаралитические пораж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Кроме того, поражающее действие на людей оказывают высокотемпературные продукты взрыва, при этом люди получают ожоги различной степени тяже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Arial"/>
              </a:rPr>
              <a:t>Скорость движения взрывной волны достаточно велика (300...400 м/с), и люди, попавшие под ее действие, получают тяжелые травмы и контуз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C4C5-53AB-41FC-BE8F-A33FDF8E0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иближенной оценки развиваемого давления газов при взрыве пыли можно использовать уравнение состояния идеальных г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39640" y="388620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ксимально развиваемое давление при взрыве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чальное давление, равное атмосферному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ъем газообразных продуктов после взрыва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емпература газообразных продуктов после взрыва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ъем аэровзвеси до взрыва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емпература аэровзвеси до взрыва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6304-9826-4751-B9C5-51F8528EA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5708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5:19:47Z</dcterms:created>
  <dc:creator>User</dc:creator>
  <dc:description/>
  <dc:language>en-US</dc:language>
  <cp:lastModifiedBy>Вишникина Алла Николаевна</cp:lastModifiedBy>
  <dcterms:modified xsi:type="dcterms:W3CDTF">2018-01-09T10:25:04Z</dcterms:modified>
  <cp:revision>86</cp:revision>
  <dc:subject/>
  <dc:title>АВТОМАТИЗАЦИЯ ПРОИЗВОДСТВ В ПИЩЕВОЙ ПРОМЫШЛЕННОСТИ</dc:title>
</cp:coreProperties>
</file>